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7307-A888-4A3E-8AE1-2609E594F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8D656-4825-4210-AE32-517BA2477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748D-D3C6-4DED-9F6D-0792399B1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D516-05AA-4DBE-8340-E929BAE62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D6CE-F26A-4B21-832B-184497E2D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C9C1-FDF5-4F3C-98D6-DA610DB14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B8C9-01ED-4729-AF4C-1B29A0D36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A6AB-BED4-464E-A675-ECC02ADB8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2526-6945-4817-8FFE-9CA9B22CA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F1F5-0A19-428F-8623-DE90FB85A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5340-950A-44E3-9FA3-821C54550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5A7E-E839-4B84-BF09-30A11271B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0A906-E742-4990-9199-BD8891CB0E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nyplp.ning.com/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ny-plp.wikispaces.com/" TargetMode="External"/><Relationship Id="rId3" Type="http://schemas.openxmlformats.org/officeDocument/2006/relationships/hyperlink" Target="http://wnyplp.ning.com/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429000" y="0"/>
            <a:ext cx="29718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7010280" y="5410080"/>
            <a:ext cx="2133720" cy="144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914400"/>
            <a:ext cx="4648320" cy="609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905120" y="258840"/>
            <a:ext cx="55623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848720" y="0"/>
            <a:ext cx="1295280" cy="1066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295280" y="5410080"/>
            <a:ext cx="10670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52480" y="380880"/>
            <a:ext cx="670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NING- our VL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28800" y="1143000"/>
            <a:ext cx="6324480" cy="48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A social networking site that provides for blogs, forums, and other content shar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A place to get folks started using the tools and sharing onl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A place you will be helping to lead the conversations and resource sha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Our Ning site will b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nyplp.ning.com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2286000" y="762120"/>
            <a:ext cx="77724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•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Four 2-hour after-school sessions in</a:t>
            </a:r>
            <a:br>
              <a:rPr sz="2400"/>
            </a:b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Elluminate between late Nov. - April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•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Each session repeated two times </a:t>
            </a:r>
            <a:br>
              <a:rPr sz="2400"/>
            </a:b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(To keep group size smal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Times we meet are 2-4pm – try and log 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15 -20 min ear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Invest in a headset and do NOT sit in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same r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Arial"/>
              </a:rPr>
              <a:t>Ellumin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696080" y="0"/>
            <a:ext cx="1447920" cy="9144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219320" y="5410080"/>
            <a:ext cx="12952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7848720" y="0"/>
            <a:ext cx="1295280" cy="1066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95280" y="5410080"/>
            <a:ext cx="10670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990720"/>
            <a:ext cx="6781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Questions? Comments? Concer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2895480" y="1905120"/>
            <a:ext cx="3776760" cy="33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981080" y="879480"/>
            <a:ext cx="6858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Arial"/>
              </a:rPr>
              <a:t>Don't be too timid and squeamish about your actions. All life is an experiment. The more experiments you make the better.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alph Waldo Emers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001000" y="0"/>
            <a:ext cx="1143000" cy="838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295280" y="5257800"/>
            <a:ext cx="121932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286000" y="258840"/>
            <a:ext cx="556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Welcome and Int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848720" y="0"/>
            <a:ext cx="1295280" cy="1066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295280" y="5410080"/>
            <a:ext cx="10670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676520" y="1066680"/>
            <a:ext cx="685800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Quick Overview of Elluminate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Introd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cc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Your 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Your 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Best example of technology use you have seen in your building/district- by you– or someone el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419720" y="2133720"/>
            <a:ext cx="2962080" cy="1601640"/>
          </a:xfrm>
          <a:prstGeom prst="rect">
            <a:avLst/>
          </a:prstGeom>
          <a:ln w="76320">
            <a:solidFill>
              <a:srgbClr val="3366ff"/>
            </a:solidFill>
            <a:miter/>
          </a:ln>
        </p:spPr>
      </p:pic>
      <p:sp>
        <p:nvSpPr>
          <p:cNvPr id="51" name=""/>
          <p:cNvSpPr/>
          <p:nvPr/>
        </p:nvSpPr>
        <p:spPr>
          <a:xfrm>
            <a:off x="1219320" y="5638680"/>
            <a:ext cx="17524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1523880" y="304920"/>
            <a:ext cx="655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Powerful Learning Practice for Administrators and Teacher Lea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371600" y="1523880"/>
            <a:ext cx="1828800" cy="19051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276720" y="2209680"/>
            <a:ext cx="533160" cy="6098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886200" y="1523880"/>
            <a:ext cx="2133720" cy="19051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781680" y="1523880"/>
            <a:ext cx="1828800" cy="19051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095880" y="2209680"/>
            <a:ext cx="533520" cy="6098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523880" y="15238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2F- Laun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1905120"/>
            <a:ext cx="1143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505320" y="1905120"/>
            <a:ext cx="1143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267080" y="15238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llu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238880" y="15238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447920" y="1905120"/>
            <a:ext cx="17524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reate a sense of urgency, build community, whet appetit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191120" y="1828800"/>
            <a:ext cx="16761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ive meetings where 50 + meet,  listen and then reflect in small group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924680" y="0"/>
            <a:ext cx="1219320" cy="838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95280" y="5486400"/>
            <a:ext cx="99072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58000" y="1905120"/>
            <a:ext cx="18288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LC where we deepen understanding, network, and share resourc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371600" y="3657600"/>
            <a:ext cx="723888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Purpo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A virtual community designed to help participants gain an understanding of the transformative potential of Web 2.0 tools in a global perspective and context, and how those potentials can be translated into classroom practice in Western NY school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219320" y="5638680"/>
            <a:ext cx="17524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696080" y="0"/>
            <a:ext cx="1447920" cy="8380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295280" y="5486400"/>
            <a:ext cx="114300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71600" y="990720"/>
            <a:ext cx="74674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Seek out schools willing to invest some time in exploring the challenge of 21st Century Learn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Ask the schools to identify small teams of educators who are ready for this explor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With the support of the PLP Fellows, begin that exploration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• …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with the eventual goal of "scaling up" the exploration in each participating sch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219320" y="228600"/>
            <a:ext cx="7315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Our basic experimental design is thi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219320" y="5715000"/>
            <a:ext cx="175248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1523880" y="1190160"/>
            <a:ext cx="73915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20 schools (teams of 5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Each team has a le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20 Fellows to support the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2 f2f meeting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4 live curriculum ses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Ongoing collaboration in V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Pre/Post eval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66"/>
                </a:solidFill>
                <a:latin typeface="Arial"/>
              </a:rPr>
              <a:t>Development of 3-5 year pla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cc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52480" y="106200"/>
            <a:ext cx="563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</a:rPr>
              <a:t>The 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5410080"/>
            <a:ext cx="10670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848720" y="0"/>
            <a:ext cx="1295280" cy="1066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6858000" y="0"/>
            <a:ext cx="1946160" cy="19908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295280" y="5638680"/>
            <a:ext cx="167652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295280" y="228600"/>
            <a:ext cx="5639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Getting the </a:t>
            </a: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RIGHT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 people </a:t>
            </a:r>
            <a:br>
              <a:rPr sz="3200"/>
            </a:b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on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 the bus and the </a:t>
            </a: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WRONG </a:t>
            </a: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people </a:t>
            </a: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off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295280" y="5410080"/>
            <a:ext cx="10670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848720" y="0"/>
            <a:ext cx="1295280" cy="1066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295280" y="5638680"/>
            <a:ext cx="167652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09680" y="2044800"/>
            <a:ext cx="4267440" cy="3213000"/>
          </a:xfrm>
          <a:prstGeom prst="rect">
            <a:avLst/>
          </a:prstGeom>
          <a:ln w="38160">
            <a:solidFill>
              <a:srgbClr val="ffcc00"/>
            </a:solidFill>
            <a:miter/>
          </a:ln>
        </p:spPr>
      </p:pic>
      <p:sp>
        <p:nvSpPr>
          <p:cNvPr id="91" name=""/>
          <p:cNvSpPr/>
          <p:nvPr/>
        </p:nvSpPr>
        <p:spPr>
          <a:xfrm>
            <a:off x="4038480" y="5486400"/>
            <a:ext cx="441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Jim Collins, “Good to Great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447920" y="304920"/>
            <a:ext cx="6553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The Schedu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295280" y="5334120"/>
            <a:ext cx="106704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772400" y="0"/>
            <a:ext cx="13716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219320" y="1008000"/>
            <a:ext cx="79246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Face-to-Face Meetings</a:t>
            </a:r>
            <a:br>
              <a:rPr sz="2400"/>
            </a:b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Nov. 5</a:t>
            </a:r>
            <a:br>
              <a:rPr sz="2400"/>
            </a:b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May 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Elluminate Sessions (2 - 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Module 1 (Intro to 21st Century teaching) Nov. 29, Dec.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Module 2 (Cool Tools): Jan. 30, Feb. 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Module 3 (It's All About the Learning):  Feb 26, 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Module 4 (Virtual Learning Fair):  April  28, 2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Virtual Learning Community</a:t>
            </a:r>
            <a:br>
              <a:rPr sz="2400"/>
            </a:b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Ongo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19320" y="5638680"/>
            <a:ext cx="17524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295280" y="5334120"/>
            <a:ext cx="1067040" cy="457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772400" y="0"/>
            <a:ext cx="1371600" cy="990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219320" y="5638680"/>
            <a:ext cx="175248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676520" y="380880"/>
            <a:ext cx="67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Arial"/>
              </a:rPr>
              <a:t>Collaboration Too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600200" y="1523880"/>
            <a:ext cx="6400800" cy="354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ny-plp.wikispaces.com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nyplp.ning.com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4191120" y="3352680"/>
            <a:ext cx="396216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905120" y="76320"/>
            <a:ext cx="556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  <a:ea typeface="Times New Roman"/>
              </a:rPr>
              <a:t>PLP Kickoff Meeting 11/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848720" y="0"/>
            <a:ext cx="1295280" cy="10666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295280" y="5410080"/>
            <a:ext cx="1067040" cy="3812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219320" y="5638680"/>
            <a:ext cx="1752480" cy="1219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523880" y="838080"/>
            <a:ext cx="7010640" cy="54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Nov. 5 – 8:30 – 3pm at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Erie 1 BOCES Education Camp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66"/>
                </a:solidFill>
                <a:latin typeface="Arial"/>
              </a:rPr>
              <a:t>All participating school teams and PLP Fellows will attend with other special gues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VOLUNTEER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cc00"/>
                </a:solidFill>
                <a:uFillTx/>
                <a:latin typeface="Arial"/>
              </a:rPr>
              <a:t>Refresher/Review of Use of Blogs</a:t>
            </a: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 : as a tool for learning: For those who have not created and/or actively used blogs as a teaching tool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cc00"/>
                </a:solidFill>
                <a:uFillTx/>
                <a:latin typeface="Arial"/>
              </a:rPr>
              <a:t>Advanced Blogs:</a:t>
            </a: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 This session is for those who are interested in maximizing their use of blogs as a teaching tool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cc00"/>
                </a:solidFill>
                <a:uFillTx/>
                <a:latin typeface="Arial"/>
              </a:rPr>
              <a:t>Refresher/Review of Use of Wikis</a:t>
            </a: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: For those new to wik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cc00"/>
                </a:solidFill>
                <a:uFillTx/>
                <a:latin typeface="Arial"/>
              </a:rPr>
              <a:t>Advanced Wiki</a:t>
            </a: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: For those who want to learn more about wik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cc00"/>
                </a:solidFill>
                <a:uFillTx/>
                <a:latin typeface="Arial"/>
              </a:rPr>
              <a:t>Introduction to Ning</a:t>
            </a: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, Virtual Learning Community  (all participants will participate in this session, which is offered 3 tim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2T09:45:50Z</dcterms:created>
  <dc:creator>Your User Name</dc:creator>
  <dc:description/>
  <dc:language>en-US</dc:language>
  <cp:lastModifiedBy>Sheryl Nussbaum-Beach</cp:lastModifiedBy>
  <dcterms:modified xsi:type="dcterms:W3CDTF">2007-10-22T19:12:25Z</dcterms:modified>
  <cp:revision>87</cp:revision>
  <dc:subject/>
  <dc:title>Slide 1</dc:title>
</cp:coreProperties>
</file>